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35D-4197-4EEA-B78E-FD952D3B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2E5-9251-4160-BB62-AC7ABD78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6E6-5229-45B8-A711-1E13F122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6DB-D18F-40E8-854D-C6A54A96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A692-8D42-4955-9DF8-AEF15889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6712-1628-4AC8-A642-5578ADA8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A030-F786-45DB-AA17-63D3FAAB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A180-5257-48F3-BD43-0D66EAB4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1F12-7D27-4B6E-A086-A916EE30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A20B-500A-4E32-A704-E39F37EC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8EB6-023E-4E47-8C87-9025EB8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873-6214-443A-9841-1D71AA6B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8050-FC2A-4C3E-B8F8-3D98170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5DA2-F814-48BE-9865-297FE75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0B24-59CE-4E09-9EA0-CEA59FF4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5CF7-ED01-41EE-B073-6989F223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7C1F-9752-42FF-A980-FCFB403C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845C-8618-4DFC-8567-A299EB23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1494-475D-4946-8A10-0EA2DD6F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059B-9C07-4C07-A165-1241B23C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2436-7F8A-438B-98C5-6055115D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01C9-6D8A-4186-9ADC-27EA4738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AB4-54E1-48C1-89C6-FE97D3D5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8AB8-723F-484E-A0BA-417D2767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0E7D-A95C-424C-BD13-DC7CD5C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575F-05E9-4410-B3C9-B93910C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4B47-A783-40E6-BEC5-7B6BE0F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7A50-829A-4269-BF0C-AE6E6D7D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D32E-3F5F-4AA9-A5D9-AFC4E2D3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3501-7210-4C9B-B602-29590727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A088-C7F5-49CD-8D46-4D70E83A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05C4-4E2A-4A93-B4E5-7D5B5458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798DC-21C8-4F2E-A80A-1C4E7836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070-60C1-4131-8556-C6ED4562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FA79-E619-4981-9A20-FCF3DBF1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D015A-C64E-44D8-843C-257B48B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7D4B2-85D1-4C16-99AE-4D97CC72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321E-58D3-4143-A19A-D18092B3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050B-8880-4970-9D89-635AF98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3391-4985-4DCF-8025-0BC411D2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A87E-B8E2-4BA0-83E7-5D6D18D5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DAC9-8023-4AEA-BDF4-92009605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ABEC-7D08-41F3-B8D4-FAECCB0D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157-9877-42FA-8B19-E46F3B14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72A-BAC4-4566-8894-82F054B8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F74-7A2B-4626-906E-4554657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7FC-410D-48C1-984A-29690CFD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916-FE53-4B70-93CC-4B8D0EE2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4C30-40B0-4159-9D72-E2EE61334C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9F59-9CC6-427A-A0B5-2A5EFBEA2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F8AD-7CD3-41C7-992F-0BDD0C147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C2E7-06E7-4741-A3AC-80F38CE51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ootmouse.com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hyperlink" Target="http://atestore.enablemart.com/products_detail.asp?id=154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bilityhub.com/" TargetMode="External"/><Relationship Id="rId3" Type="http://schemas.openxmlformats.org/officeDocument/2006/relationships/hyperlink" Target="http://www.readplease.com/" TargetMode="External"/><Relationship Id="rId4" Type="http://schemas.openxmlformats.org/officeDocument/2006/relationships/hyperlink" Target="http://www.synapseadaptive.com/aisquared/zoomtext_9/zoomtext_9_magnifier_reader.htm" TargetMode="External"/><Relationship Id="rId5" Type="http://schemas.openxmlformats.org/officeDocument/2006/relationships/hyperlink" Target="http://www.iglou.com/vrsky/" TargetMode="External"/><Relationship Id="rId6" Type="http://schemas.openxmlformats.org/officeDocument/2006/relationships/hyperlink" Target="http://www.e-speaking.com/" TargetMode="External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8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alking Device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raille trans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mited hearing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lete Hearing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1542960" cy="234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M Classroom Audio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4043520" cy="290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sed Ca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267080" cy="3405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ny types of mobility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lking, dexterity, par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26692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yboard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5324400" cy="372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ot-controlled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6" name="" descr="no hands mouse control of the mouse and cursor using a fe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819520"/>
            <a:ext cx="3962520" cy="2776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el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43480" y="2095560"/>
            <a:ext cx="3027240" cy="39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ech command of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-speak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429000" cy="361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980720" y="2057400"/>
            <a:ext cx="3886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ye-driven keyboarding (Eye-ga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p and Pu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5" name="" descr="Image:Sip-and-puff device.jpg"/>
          <p:cNvPicPr/>
          <p:nvPr/>
        </p:nvPicPr>
        <p:blipFill>
          <a:blip r:embed="rId2"/>
          <a:stretch/>
        </p:blipFill>
        <p:spPr>
          <a:xfrm>
            <a:off x="6324480" y="3429000"/>
            <a:ext cx="2086200" cy="2781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EyeTech Digital Systems, control computer cursor with eye moveme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295280"/>
            <a:ext cx="2295720" cy="2343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&amp; Assistiv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ual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earing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bility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and Learning Disabilities: Leveling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Plan Assignment: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Presentation Topic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our on-line identities relevant to who we are off-line? Is on-line even a REAL pla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Universal Desig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828800" y="17524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sign of products that helps all, including people with dis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rrier-free”               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ample: Curb-cuts                        in sidewalks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381040" cy="17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elps people with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 benefits for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e01318"/>
                </a:solidFill>
                <a:latin typeface="Arial"/>
              </a:rPr>
              <a:t>Example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Text-to-speech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Computer monitor with touch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Closed 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Wheel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4600" y="2437920"/>
            <a:ext cx="6168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eferable to adaptive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logy &amp; Learning Disabilit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Leveling the Field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ny technologies allow effective interventions for 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Technology and LD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3943440" cy="296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– to – speech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rmits user to “listen” t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sts with reading / understand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e01318"/>
                </a:solidFill>
                <a:latin typeface="Arial"/>
              </a:rPr>
              <a:t>Read Pleas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Word Processors – e.g. MS Wor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yslexia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828800" y="2057040"/>
            <a:ext cx="6778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peech – to – text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ows user to speak answers or information that is translated to written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Dragon Naturally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ysgraphia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y allows ALL students to have similar quality of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students can have equal access to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self-esteem and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 Level Playing Field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828800" y="1295280"/>
            <a:ext cx="6778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ility Hub – Links a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bilityhub.com/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Plea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text to speech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Zoom Tex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magnifies scre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gon Naturally Speak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peech to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-speak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voice comma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Resourc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daptive &amp; Assistive Technologi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re our on-line ide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levant to who w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re off-lin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on-line even a REAL 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 Paper due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04760" y="1447560"/>
            <a:ext cx="6778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ies that allow people with physical disabilities to perform or use common tasks o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Adaptive / Assistive Technology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1" name="" descr="Image:Head-wand.jpg"/>
          <p:cNvPicPr/>
          <p:nvPr/>
        </p:nvPicPr>
        <p:blipFill>
          <a:blip r:embed="rId2"/>
          <a:stretch/>
        </p:blipFill>
        <p:spPr>
          <a:xfrm>
            <a:off x="4876920" y="37339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6778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mited vision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plete impairment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Tahoma"/>
              </a:rPr>
              <a:t>Visual Disability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828880" cy="237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arge Screen monitor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xt reader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Limited / low vi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210360" y="3276720"/>
            <a:ext cx="2446200" cy="327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Zoom text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al software that magnifies regular computer screen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Limited / low vi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581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een Readers – text to speech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al software that reads screen text to u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b based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 Plea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2438640" cy="225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828440" y="11430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-to-text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 commands (computers, phon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2-08T02:21:19Z</dcterms:modified>
  <cp:revision>27</cp:revision>
  <dc:subject/>
  <dc:title>Welcome to  ED3862</dc:title>
</cp:coreProperties>
</file>